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28B-374D-488A-B415-A79088A4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769-E7DD-4EBC-81FF-0A66E775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C76-DD40-43F4-8A0D-6530894C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1A4-5081-49BF-8BC0-E127E389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7D25-EBC4-4C3D-8F49-E8B918F0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16EC-CAD8-4D4F-A9BB-E4BC745E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3E8E-D7EB-4A70-A568-D5E8B19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13BF-4132-4A85-802A-2BDB54C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1BE4-DA4E-4899-8C91-DAF0D7D9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C98D-5F5A-4A17-AB44-F48FCB0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88D9-5539-4B3F-86AB-923DDC9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C60-C3C3-4E55-9A82-FB9C08F4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8E91-5E48-474F-829D-954E4A9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B291-0185-48D9-9E45-EF46514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80E-5F5E-43C8-8084-CD7F072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ED21-FC37-4CB3-BAB1-D506EDF5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BE3-99CF-493F-BDF8-DD7811FD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EA9-F10C-4639-A2EE-AC6167BF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59C-979B-4064-8789-6EC926B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2F8-091F-423C-B128-521665D8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C6B-1D46-45B6-987B-5A1D370C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DD7-8003-4582-9469-00EDCBB2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AC1-177D-404B-A6EC-2EC2A06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664-E81E-4A35-8C1A-893336F3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BAF3-A0DE-4EB3-9E00-94589551E6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B00D-7BA8-4781-8228-686AAB6468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 without its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178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178.28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442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6858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442.2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3600" y="2819520"/>
          <a:ext cx="31240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19520"/>
                    <a:ext cx="31240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성민 학교프로그램용</cp:lastModifiedBy>
  <dcterms:modified xsi:type="dcterms:W3CDTF">2008-11-30T07:27:3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